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836-8CE8-4E4C-A8EF-9C37E6BA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FA2-7300-423E-A787-121CAF9C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D12-0F20-413E-A2F2-F10E0F60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3C8-C5AD-430F-B12B-D38D1D1F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213F-F80D-44FA-A064-0E679BE0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A92B-5058-4F6A-9EB7-48983811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A1F2-13CD-4CE0-8305-A70DD08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477F-691F-434C-AD0F-2AB9C311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A0E4-42BF-4F62-B63E-3AFB1FB9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23D3-D4C5-466C-BFDD-9E743CE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955B-6B1B-4482-9D16-31EA270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D59-740E-4339-8DC4-0F096BC1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D99E-DDD3-4234-9923-AB773225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C84D-E422-4AB4-83C1-35826A8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5E65-0EDE-4E12-9E07-AD243496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29B9-42C9-4405-BCB5-8A123624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291E-BF2C-48CA-8CB7-E48B4E8B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608-2A5B-4289-A064-D4BBF24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BAB-01E5-472F-8240-C5A6911D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EE3-C1EF-4B84-9E10-11FDDD71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E74-C3D3-46C6-BAC3-20717201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F29-3D0A-409B-839E-B0F1385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80B-71A4-45AB-9918-D788CC1B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3DE-99FB-4F45-9E23-D31FDDE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B887-B1B8-4746-AEF1-0FF29F1E2E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84F7-5784-4EF4-8EF8-08F6B2162CC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mirror the introduction in leng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back to the quote, anecdote, scene, or profile that you used to begin the essay and make som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inal comment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n the main purpose of the essay based on the information you’ve presented in the essay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of Conclu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should do three thing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dgement, Culmination, Send-o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Judg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l judgment on whatever question, issue, or problem the paper has focused up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connection with the introduction-repeating some of the key te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les yes or no when considering the opening question or hypo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licitly revisits the introductory claim for why the topic mat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of Conclus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lmin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p or summit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ing things together and ascend to one final statement of your thin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d-of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inal opening outward of the topic that leads the reader out of the paper with something further to think about but does not introduce a brand new top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peculation that you have earned the right to formul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agr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mm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gg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sue Im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ason inductively to consider broader issues, such as the study’s practical consequences or applications, or future-oriented issues, such as avenues for further research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e Full Cir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fy your paper by interpreting the results of your analysis in light of the context you established in your 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Limi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knowledge restrictions of method or focus in your analysis, and qualify your conclusion (and its implications) according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i="1" lang="en-US" sz="1000" spc="-1" strike="noStrike">
                <a:solidFill>
                  <a:srgbClr val="ffffff"/>
                </a:solidFill>
                <a:latin typeface="Tahoma"/>
              </a:rPr>
              <a:t>Writing Analytically 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avid Rosenwasser and Jill Stephen 20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57:57Z</dcterms:created>
  <dc:creator>klrodems</dc:creator>
  <dc:description/>
  <dc:language>en-US</dc:language>
  <cp:lastModifiedBy>Rodems, Kathy</cp:lastModifiedBy>
  <dcterms:modified xsi:type="dcterms:W3CDTF">2017-08-29T14:15:57Z</dcterms:modified>
  <cp:revision>12</cp:revision>
  <dc:subject/>
  <dc:title>Conclusions</dc:title>
</cp:coreProperties>
</file>